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2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FCA0-1743-462C-882B-7EF44865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071-E5AD-4696-A605-2809DD4D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795-0DCB-40D9-9BC5-B2012AB7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855C-C51C-4B6B-A317-6E53B4F4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C942-196F-411C-8116-43A53FB7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8474-C7AF-4660-9333-6B5E54A7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404E-5B18-4CF3-AEED-3F404000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4775-B36E-4135-946A-1FEDD971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FE01-C8F5-42B6-9F9B-D7B5D436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809C-B1BA-4F12-B012-65433312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303A-5068-406D-9D58-448BC17F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5A3-A2C6-4D7B-B61C-7BF4CFA1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39F9-72CC-449D-A41C-592480D7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595D-2FA2-4C69-BF3D-7E9E3C24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F40B-51E6-4A6B-979D-9CA8E2A5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A422-F092-43F2-AD31-8982C758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1669-E15E-4C7C-94F8-4C2CF1B1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155-5EF7-4F87-9DB9-2FB0A0DE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8F5-345F-437C-8B5E-8E425059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4421-6951-4A8A-AEBC-97897BE0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52D0-D666-4972-8BFE-58EB213B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AFBA-72E7-42AB-BB88-B88DC827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1E87-9AB3-4C05-87A5-444AA516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4257-62A3-450F-B1A9-643665CF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8038-ADCD-499F-8F7D-682049781D46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2C48-4174-4E0F-A691-1EF8A1BC1C0F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2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00000" y="2852640"/>
            <a:ext cx="7488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000000">
                      <a:alpha val="50000"/>
                    </a:srgbClr>
                  </a:outerShdw>
                </a:effectLst>
                <a:latin typeface="Hesham AlSharq"/>
              </a:rPr>
              <a:t>المواد الصلبة والسوائل والغازات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  <a:latin typeface="Hesham AlSharq"/>
              <a:ea typeface="Hesham AlSharq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55640" y="1989000"/>
            <a:ext cx="72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لْمَادَّةُ الصُّلْبَةُ لَها شَكْلٌ مُحَدَّدٌ. تَختلِفُ المَوادُ الصُّلْبَةُ بَعْضُها عَنْ بَعْضٍ في الشَّكْلِ والمَلْمَسِ وَكَمِّيَّةِ المَادَّةِ. يُمْكِنُ أَنْ أسْتَخْدِمَ الْمِسْطَرَةَ لِقِياسِ أَبْعادِ الْمَوادِّ الصُّلْبَةِ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5040" y="765000"/>
            <a:ext cx="659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مَا صِفَاتُ المَادَّةِ الصُّلْبَةِ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0000" y="2205000"/>
            <a:ext cx="7559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لْمَادَّةَ السَّائِلَةُ لَيْسَ لَهَا شَكْلٌ مُحَدَّدٌ، إِذْ تأْخُذُ شَكْلَ الْوِعاءِ الذي تُوضَعُ فيهِ. يَنْسَابُ السَّائِلُ فَيَنْتَقِلُ مِنْ مَكَانٍ إِلى آخَرَ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36880" y="420840"/>
            <a:ext cx="787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Times New Roman"/>
              </a:rPr>
              <a:t>ما صِفاتُ السَّوائِلِ؟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68360" y="4653000"/>
            <a:ext cx="4391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00000" y="765000"/>
            <a:ext cx="774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ff"/>
                </a:solidFill>
                <a:latin typeface="Times New Roman"/>
              </a:rPr>
              <a:t>ما صِفاتُ الْغازاتِ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لمَادَّةَ الْغَازِيَّةُ لَيْسَ لَها شَكْلٌ مُحَدَّدٌ، فالغَازُ يَنْتَشِرُ بِسُهولَةٍ يَتَكَوَّنُ الْهَواءُ الَّذِي أَتَنَفَّسُهُ مِنْ غازاتٍ مُخْتَلِفَةٍ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71640" y="3716280"/>
            <a:ext cx="33958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86040"/>
            <a:ext cx="813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أنا لا أرَى الْهَوَاءَ، وَلَكِنِّي أُحِسُّ بِهِ عِنْدَمَا يَكُوْنُ بارِدًا أَوْ دافِئًا، وَأُحِسُّ بِهِ وَهُوَ يَنْتَشِرُ مِنْ مَكانٍ إِلى آخَرَ. ويتكون الهواء من مجموعة كبيرة من الغازات مثل : غاز الأكسجين الذى يتنفسه الإنسان والحيوان وسائر المخلوقات على سطح الأرض وثانى أكسيد الكربون اللازم لعملية البناء الضوئى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771640" y="4581360"/>
            <a:ext cx="34117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6:35:42Z</dcterms:modified>
  <cp:revision>23</cp:revision>
  <dc:subject/>
  <dc:title>PowerPoint Presentation</dc:title>
</cp:coreProperties>
</file>